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E59D-9608-4BEB-9A2C-0906147B8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DC4C-686C-4810-83EB-946FB097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7474-4A2A-4B72-83A4-782B0DDAD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52AB-8620-4440-8AC9-A787377A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D973-75D2-42F7-94C3-9A8D99E8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EDE7-61CD-42FC-A8F2-90F2F773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C637-9FBF-429A-8DA2-CA51C90A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5199-D2EA-4CFF-80E2-E5F68D0B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A058-2056-403C-83B7-12B23A42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4113-DCE8-4EA9-B6CE-AFA8AE3B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DAB6-6142-4580-8FBD-83678E41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8F46-9A59-4834-ADD9-81EFE08C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F1E8-88CA-434C-A270-404E0677C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man Feature/Physical Fe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C:\Documents and Settings\Chris\Desktop\New Folder\st_clif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2590920" y="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hysical Featu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514600" y="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cliff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C:\Documents and Settings\Chris\Desktop\New Folder\waterin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1447920" y="5335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he tre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295280" y="533520"/>
            <a:ext cx="723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Hmmm, Tricky…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Human Featu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5" dur="1" fill="hold"/>
                                  <p:tgtEl>
                                    <p:spTgt spid="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last example, the tree, is a difficult one. Where did the tree come from? Who put it the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hysical environm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hen, is an environment, or place, that has not been altered or changed by humans. 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has many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hysical featur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and not many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uman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uman environm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is an environment that has been changed or altered, or even created by humans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uman environm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has many human feature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se environments human environments or physical environments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k at the whole environment to decid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C:\Documents and Settings\Chris\Desktop\New Folder (2)\1304080426_c394a4e76d_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C:\Documents and Settings\Chris\Desktop\New Folder (2)\aerial_rac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C:\Documents and Settings\Chris\Desktop\New Folder (2)\far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C:\Documents and Settings\Chris\Desktop\New Folder (2)\mono-lake-1-72348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HelveticaNeueLTStd-Lt"/>
              </a:rPr>
              <a:t>Physical features</a:t>
            </a:r>
            <a:r>
              <a:rPr b="0" lang="en-US" sz="4400" spc="-1" strike="noStrike">
                <a:solidFill>
                  <a:srgbClr val="000000"/>
                </a:solidFill>
                <a:latin typeface="HelveticaNeueLTStd-Lt"/>
              </a:rPr>
              <a:t> sh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HelveticaNeueLTStd-Lt"/>
              </a:rPr>
              <a:t>natural objects such as mountains and rivers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HelveticaNeueLTStd-Lt"/>
              </a:rPr>
              <a:t>Human features</a:t>
            </a:r>
            <a:r>
              <a:rPr b="0" lang="en-US" sz="4400" spc="-1" strike="noStrike">
                <a:solidFill>
                  <a:srgbClr val="000000"/>
                </a:solidFill>
                <a:latin typeface="HelveticaNeueLTStd-Lt"/>
              </a:rPr>
              <a:t> are things that are built b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HelveticaNeueLTStd-Lt"/>
              </a:rPr>
              <a:t>humans such as bridges and roads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C:\Documents and Settings\Chris\Desktop\New Folder (2)\largest-swimming-pool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C:\Documents and Settings\Chris\Desktop\New Folder (2)\Zoo15.jpg"/>
          <p:cNvPicPr/>
          <p:nvPr/>
        </p:nvPicPr>
        <p:blipFill>
          <a:blip r:embed="rId1"/>
          <a:stretch/>
        </p:blipFill>
        <p:spPr>
          <a:xfrm>
            <a:off x="167652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C:\Documents and Settings\Chris\Desktop\New Folder (2)\swimmingpool[1]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id you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se human or physical featu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" descr="C:\Documents and Settings\Chris\Desktop\New Folder\1220_01_56---Newport-Harbor-Light-Lighthouse--Rhode-Island--USA_web.jpg"/>
          <p:cNvPicPr/>
          <p:nvPr/>
        </p:nvPicPr>
        <p:blipFill>
          <a:blip r:embed="rId1"/>
          <a:stretch/>
        </p:blipFill>
        <p:spPr>
          <a:xfrm>
            <a:off x="160020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1676520" y="304920"/>
            <a:ext cx="54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Light Hou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752480" y="30492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uman Featu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" dur="1" fill="hold"/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-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C:\Documents and Settings\Chris\Desktop\New Folder\2034_10_11---Straight-Road--Route-66--Arizona_we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838080" y="23623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uman Featu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85800" y="2286000"/>
            <a:ext cx="74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Roa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" dur="1" fill="hold"/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C:\Documents and Settings\Chris\Desktop\New Folder\fores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228600" y="266688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hysical Featu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52280" y="2514600"/>
            <a:ext cx="57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tre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C:\Documents and Settings\Chris\Desktop\New Folder\Gateshead-Millennium-Brid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153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304920" y="228600"/>
            <a:ext cx="60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Human Featu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90720" y="3049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brid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C:\Documents and Settings\Chris\Desktop\New Folder\PoliceStati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4038480" y="30492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uman Featu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4038480" y="38088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Build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C:\Documents and Settings\Chris\Desktop\New Folder\silbury-hill-hdr-cc-tag-350.jpg"/>
          <p:cNvPicPr/>
          <p:nvPr/>
        </p:nvPicPr>
        <p:blipFill>
          <a:blip r:embed="rId1"/>
          <a:stretch/>
        </p:blipFill>
        <p:spPr>
          <a:xfrm>
            <a:off x="1676520" y="0"/>
            <a:ext cx="579096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2057400" y="373392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hysical Featu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hi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07:11:28Z</dcterms:created>
  <dc:creator>Chris</dc:creator>
  <dc:description/>
  <dc:language>en-US</dc:language>
  <cp:lastModifiedBy>Tarean Anthony</cp:lastModifiedBy>
  <dcterms:modified xsi:type="dcterms:W3CDTF">2011-10-07T19:34:59Z</dcterms:modified>
  <cp:revision>3</cp:revision>
  <dc:subject/>
  <dc:title>Human Feature/Physical Feature</dc:title>
</cp:coreProperties>
</file>